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22C-533E-4CCA-9404-40583B379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6EF1-B776-4D42-9707-52ECBC95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EF86-809A-444C-BE2F-B18EF2A6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627-D0B6-4789-88E4-601BA3C7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DFD-496A-496E-A837-BCEF997D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F49-0E05-4386-8FE3-DE75C30F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418-19AC-4910-9EE8-666C9491E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393-4FBF-47A7-943B-627F5681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Number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7D3-796E-4A82-A4B7-62BB7B9B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6170-EBCF-4281-A3D4-9826942C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B22-288E-43A7-B93B-1E006AAF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BC8D-9E91-45A8-9064-37F83629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845F-BB9A-4BC5-9F60-834F9C88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FD0-4EA9-425D-B1D2-550C04DD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51D-743A-44E1-8F11-103A9B6E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34E8-6384-445B-9D12-B327FAED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341-E91D-4BED-A563-2C9727BF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0A82-CFDD-425F-954C-CF0789FB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690E-A924-4C55-BEB1-7E7C5B23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6196-95CB-4926-B0ED-ED54BA956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428-6DE1-4225-A948-BD759502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BE79-FA32-4A16-B699-4A79A76F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E0C-6D90-420D-96DD-7F96C1E3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5E6-DF4C-41A7-BDE4-8CAEBCB5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E22-7AA4-4BB9-95E3-00D00AA1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03D-E4F4-4FDE-8644-44736E26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D53-21F0-4160-ABEB-AAA933AA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CFC6-31D2-429B-A719-8CA28939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55A2-D4D8-4BBF-B8CC-7AFB4F58A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E035-4514-484D-A237-7DD97E5859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B149-9466-411C-BEAC-9800D563A9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8244-AC76-4179-B6F5-AECA897B60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9DCF-340F-4F17-973D-ECD027212D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8F00-7B04-4469-9B71-9459EC2CCD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24D9-A2B8-445A-9713-15920C608C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2089-5673-4631-B5A8-1BB440ED1D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3F14-989C-48D4-B717-317F89C5F7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5B85-99E1-4CD7-87F7-EB663B5941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C145-6CAA-42E9-866B-FFA7B7C1D6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738AE-5103-42C0-8036-AB97558E1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5D82-0039-49A5-A33C-BD72D9718D3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199A4-EA4E-49A7-B038-E8283A0FA3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1AD7E-1C66-4267-97C5-8BCE441A50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1D4DF-280C-4925-B1A4-1400204CB7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DB824-3339-46D9-8E86-B56B104C15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E6839-3358-4673-A131-FD3B19540D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D5A22-885A-4605-8716-2142F95047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C3ADC-113A-4A04-B62C-6A0E0BAD6E0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CAB60-C56E-4B3F-9BFB-7607DB8E20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9A774-4140-43A8-9EB1-CC283B59C6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CB7CE-E912-46F6-A4C4-D691B808A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5500-B557-4080-BF45-ACAE4308D1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95470-91F0-4720-BA3F-B801EB71C21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3AA30F-EA0A-4F8F-B087-42F95DBFCB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575EB-2932-481D-A01B-BB1D68A8F6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179008-2052-49B8-A893-7335C64B01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93BAC-034E-4FA4-88DC-61D063C3AE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D07E7-8686-4F74-9B10-8102EC3878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A0762-6C85-4AF1-8564-6BB6D3E792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CD080-54A2-4DF4-9CB4-36B2A9037B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B321C-5981-4A75-81E4-4752D7C5DE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8C8DC-DA1F-4EC1-BA8C-296DD270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2EA-69FA-417B-B047-AB2E101CA4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3D838E-DE0A-4411-AAA0-990A3C4045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A7CE0-1B83-4910-8464-926060B31C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CCCB7-06CB-4934-A3D6-69DDCA6B77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02E3-62A8-4131-95F5-C69AECFDA0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1FDF9-5E9B-403C-8E5A-D10AAE80E6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66D9-DC9A-425A-81ED-ABB003C47B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6080-617D-49AD-8909-A1FAD99F81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9F0C-8713-4314-B4F7-691896A810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CA1C4-46B3-4BA6-82D2-5D5BF2CB1E7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6156-D96B-4A75-8EED-10490D36E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2A1-B874-47D4-96AA-D3F8867C4A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C936-9979-4B68-8F9C-CF320C42E0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00D3-4E19-4C21-A8D9-664B6BC2D2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C211-7E0F-4049-8E77-98C85E7D17F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ED01-DA28-4879-87A1-C63E917BDCC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FCBF-3A7C-4CB1-BD14-C9DDB0463C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139-A829-4A5A-A89B-BFD0693642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4DF-B160-44B6-BA90-C027965AF1A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3D9-BF2A-4007-AF8B-9FA6B95A6C2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7CC-F048-43FA-9937-4B785AF2AE9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A295A-DDDD-46A7-8904-69E88F3DF81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81CECE-730D-4C56-A706-22E5E863383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B4E74D-EC5B-4BD6-8D96-56A101985A7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B24E0-C6BF-4B2F-B4DD-B8B144DA300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A0CA0-81E6-446E-ABCE-B362BAA6C00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F7C44-93ED-419B-B7F4-1DB5D696B5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37280-EBB0-4E57-8627-B380582EBF2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B497F-310E-49F2-8B3E-26F2A92D83F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D0ECB-3BDB-424A-BE7C-C6FB572DE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6E2-D327-4431-B12D-40770710C2F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2211A-DBBE-4C90-927E-283F40AFEE0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33592-6AB5-443C-999E-5763D8E804F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0093D-FC0E-432E-91F3-50A15AE6A3D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E03F5-A99D-4F74-AA73-C4CD759D01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B0D3B-9231-46C7-B952-6D58F299259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F4BAC-1B52-4F6C-BB72-6578463CBFB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BB861-7705-4660-BDF6-0F6FBDB3E67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CA374-4C2C-4BAA-9249-1F5CF39FDE2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55C4F-E7C2-44F5-B15A-358CF878333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98365-3C79-4636-8A31-36DDE5B8F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BF9E-37F9-4368-AB91-FA53DE06C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FEB-24EC-4480-8177-3A57883EEF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76F31-D7B0-4A83-BE62-9D281BF5C19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44466-D06B-4723-B2A3-7103A6295C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F0E1C-436E-4277-9477-D770E1182C8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F9CE1-0584-4606-9513-44C0C17E66B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AB5FC-939F-4CCC-9756-075D3694C01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38BE-63D9-4A08-8A2A-EF30D033F91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6757B-D330-4C90-ADD8-EC17C44DE6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B051-7FA7-47D5-A237-C36CC3954A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EB91A-869E-40B3-8B13-AE77E64D55F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98770-C628-460C-8990-3D47F6A545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111-14EC-469A-934B-5F8DD272F51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4BAD-05AC-4FB4-BD13-7DA1E595CB9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1060-602B-48B2-8C18-184B2443093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6BFD-105F-45A7-A866-A677DC426E1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557D-7E15-48F8-A341-38062DBED6A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C5BD-98B2-4450-A5A7-C3DADCBC8CF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64DB-420F-4E41-83CF-637F9688687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6D901-AFDA-49B7-90D8-2628672EA7C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4AE4A-B8A2-49F2-8DE0-645AC052C9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34D0C-3D1E-4E86-B634-73693FB66E7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51C65-715D-41AE-BE91-90615CC20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B47-0A75-4092-ABF7-F6DA37F16C9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4F7F0-444A-4F1C-9F3A-BAF30DCDB37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01CE8D-8203-4BDB-B358-E50DBCC54B3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DA21A4-AC91-498F-AC66-1B5ADA4BBB4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44507-15C3-4A2C-873C-DF93D4593FB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6FB67-3B54-4E4B-B245-15025A4B93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E07957-8360-43F4-A4AE-8ABD584083F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9C11B-7EDE-4023-BDDE-9D35CB36B24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62C62F-C62D-44BD-B959-BBF7C95583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BC0AF-3368-4EDC-A3FA-D6CD3E0FDB1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97A1D-DE55-4659-A88F-6D31053D1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BAF-52A4-447B-9F70-FB1C117F1DD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7E3552-3948-4385-8D89-0822F4C1F5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5F8967-9E7D-4FCF-B24D-C803B7A345D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F6AFD0-F423-446D-AC69-56671446182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7E1C1C-7555-4D8B-9B14-BDAEAA8881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F1E193-B685-4451-B292-7352056E716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083491-B19E-49D6-B708-FAE062AA2ED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855F1-E133-41DD-914E-A063A79030B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AE44E3-E157-43A8-BB61-D1B95218CCB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E49722-CAE1-4704-BC80-83F404FBE5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201B07-B6DD-4439-ACF3-3AB25B9C6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4C3-57AA-4395-8A90-458C394B29F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93A99F-28B5-4FDA-9FB1-C53D2E18350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5D6A-08A1-4ABD-9ADE-A936FE3B79D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C365A-DDBC-4BBE-9481-48BE6577E6E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2F08-2696-4A5F-AC17-7A06F8CBB85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CA04A-2597-4610-BAFD-1280B3395CF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7A22F-CE26-4C75-AA07-06D53A16E29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48CDC-8FD9-4FF2-808F-CF188AC1C88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A694-C47B-4411-9020-1A094E2EE34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D4D13-C1DB-4C7E-B1E3-3FCF4CF5D16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6647-8D31-4FBA-82D9-3A0670EF2E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9849-3FB5-40F4-8205-08DA5DA04B1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026A-576A-40D7-8690-5E5250A5D8B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FF16E-BDB4-4FAD-B0A7-77E55853D14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B686B8-1121-4C3C-BBD3-68D2EE22C64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0E173C-5636-4CE2-A80B-F6DB9AB4045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95C0BD-DD73-4B0B-8CB8-48DDACF4E0C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2DBB6F-E748-4D28-A5C8-126E9CB20C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AF932F-D3C8-4BD3-B561-51CC872A5F4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0FB6FE-04C1-4C82-88EB-946B7A209C1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EADC58-1726-41F4-821B-5389FF8F7A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CC87D6-2D13-44F9-A8FD-4AE6EA1C969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E71149-711F-4895-B461-24D1020A26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DCB857-55C8-4C74-86B8-910B3BAB529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79E284-823F-4EC8-86A9-8A8EB84003C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926374-DFE2-472A-96BD-FABA54E06C7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224BF3-5663-4ED3-B705-17364E02436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1B5051-F5E9-461E-AB1F-836A44E2E4D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92E52C-3265-4E58-A1A5-3DEFDA871A5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440BF7-DAF0-45F1-B7CB-3413B72AEA7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6DBFC1-F10F-46FF-96E8-24A7847BF6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D1875-335D-4917-BBD4-A0169036440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9A7E19-3319-4691-9742-967A06B0561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D1E0D0-46C4-4904-9376-705ECA14A7E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EBC7E0-F5FA-423E-B9DC-7ECFBDB128D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C1397F-62DE-4E74-9F27-D53F1706B4F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5C27D2-33BB-499B-90A2-56AC9CFE70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C61C6F-2C88-4A70-9088-EF8B9605F33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79A64-5645-4C07-B007-8AD88A5B209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EC7F7-8AFE-46D4-8067-A9162891374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86210-7B91-4A2B-B5E6-3565FD2A60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DBFE3-3644-4B9A-B2B4-D4B3DC2310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7615F-D35C-421F-9283-138EFE58EB3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E3E00-C47D-4B32-8F4F-2B2FF578D7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36417-C156-4FF4-9E53-EFD072DD186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E1DAA-CABC-4D48-8DE5-E0A1725F0C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59BEE-E2E8-49E7-8351-5D710DA8DEF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D309-3CFB-4BE2-ABC4-42879A0296C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75C81-5256-4444-B64E-9AB682EEA53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DB52E-75B1-4171-8B65-58B18B2FBA5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9715-7971-433A-A493-98D4881677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661D-F67C-49A8-BAEF-772A2EC15E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E36C-EDA6-471D-8B99-62D81DA1D1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F335-F844-45E7-80BB-7F059895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B87D-A111-4711-A866-BD5E9498DB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AD0AF-786F-4910-B1D2-405EA6D8C7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60564-0864-45AC-9387-1C6A2AAFED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48CBE-FD07-48CB-B1A3-1F07D1C0D1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9D85E-72A6-431B-B983-47AF3F5730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8142-A414-416D-B27E-A33A44D0F0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B7528-7832-49FE-A7C4-AC01637A7D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7138C-99C4-4BE7-968B-5575B77DCB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F455D-3AB2-4141-8095-36CCC9CA3C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3927-FF1D-4C38-9E7A-07D5B28AD0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382F3-3B49-4BE6-97BD-DBDD18ED9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216-708D-4602-984A-FD5A510B21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73A9A-DD93-4D87-9621-2D0636E227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14237-CAE3-4BA5-A15C-5E18AE4FFA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58A26-5B01-46FE-BCDF-4514E47C4C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08857-E81D-4C34-8F44-D44D41934B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9916C-2971-4944-9840-8C0CECFBB9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6F3FC-8F60-4478-88A8-2CF4412B1D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5D1EF-068D-40EE-AAFB-122C0178E5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1EB75-1782-49D3-B60D-6D0BD5682E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34505-8C7D-4BDE-94C1-94D7239390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3F668-FF79-4F04-A7C6-A6BFBA967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B43C-4BDD-407D-8EAE-0FF437F85C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5A684-6FA0-42EC-B3D5-A1D5B911B9E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FA15-8BCB-44E2-8106-28CD91F168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138D-198D-447D-98BC-50AA4CC21F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C194-51E5-4A55-8E0B-EB549AD65A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9B3A-7830-4DA4-906A-6E96ACEB19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CAE5-249F-43E2-8012-81635FB685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4171-2069-4B2D-8998-E04626614B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C230-753B-4D9D-B8F1-1DF26B76CF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EBD8-BF12-4A55-96C4-D91445F319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88A8-0F82-46CE-89A7-525616A31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B8AD-8AD3-4639-B211-6B3B0CED1B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BC3B-1FF0-42A4-8B6C-7BB2327D8A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11EF-5F81-4F30-A0BD-0046F06E05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CF89-A7DA-4E30-AA59-909875DDF5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98CE2-5E85-4962-9FBB-A2565CCE59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39649-91B4-466C-AFF7-F3614E9A3A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139D7-D8BB-4323-9E32-40E1AC7F35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1F437-19D9-4B5B-859B-5845D3C7DD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A15BE-80BD-4E5F-BF9E-826465D2FE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7528A-2F11-4B71-A9DE-CCDE3041AB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80B13-84C7-4CD5-AEEF-DB1CC5A0A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09D2-DD47-409F-82B8-E1C0A363A3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B453A-463A-4891-8A83-AE72C0D4F7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DA7F2-C12A-459B-BAEF-65A24C5997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7A52E-0883-4B77-BF61-EE236CE464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B03E1-104C-4729-B011-6D5A55E6AB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96C14-B58B-4981-84B3-BDA137335B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55DC9-F467-4C97-A1D6-07BF396A01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392DF-8F86-40FA-BDB0-0B355BE046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A2E59-9F1E-4CF9-A0C2-252626C432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84DAB-D6ED-40B0-A1FD-9EB15954E4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A09E7D-15CB-4B8D-A984-78BA450DE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5F47-EA21-47CF-B5AB-C023F271E1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7B55D0-D2EC-4582-B230-11DE68D381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120D0-7E9F-4959-AE6F-01BBC1FB6B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37E130-94A5-4726-B023-6E8A588AEE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1FAB7-0D26-44DD-87B1-D4ED386B92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4B18E-D827-4FE2-A330-DAB0516D4DB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AF0CF5-A9FA-4F74-87F5-8C8F35060A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58617-DC5E-44C2-9654-168D346008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BF2A-97C6-468C-9610-483A8BE664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5D9D6-64D6-4732-8D3E-22F01E3F9B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D484-DC5F-4EDB-AA4F-B8DAC640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9979-F035-42CF-9BE9-99AB2605398F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D7DD-F7BA-4A6C-834D-9BD48A55AF0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E2F-8B0F-4BD5-9398-6C4C1603F10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2D7-CBF3-465A-BF7B-7313995EC362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73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3A65-2485-4CFC-A18A-59B161E2235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1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720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6BEF-A473-40AF-8099-262C35E4A72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6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67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E942-A768-404B-BB38-41C8DD9D1CD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814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EAF-5480-4E36-926A-752D6F458BD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65F-C1FB-40AF-AABC-D081378C5DD3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5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61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D266-951B-4EB9-9175-6E6871C7DFA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0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381-5C59-4931-9BB6-3C6331494FE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966A-C1B1-43DA-A8A3-9F9D899470A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9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94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08F-F45C-4529-9DC9-F3BF42FA071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3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41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1AC-2D23-4940-8671-9D48DE163AEF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710-7C4C-4ECD-B53D-FB043D14572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571-F97F-4AD3-B938-DB48D660EBA2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13F3-94F8-4D1D-8B01-01A1859C5A2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133-E6FC-4723-8B8B-AE9F7479523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6F4E-0931-45C6-B5C3-57A06C6EC60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557C-7A83-4685-823C-E3A180CFE47C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8" name="Group 38"/>
          <p:cNvGrpSpPr/>
          <p:nvPr/>
        </p:nvGrpSpPr>
        <p:grpSpPr>
          <a:xfrm>
            <a:off x="0" y="47520"/>
            <a:ext cx="9153000" cy="6886800"/>
            <a:chOff x="0" y="47520"/>
            <a:chExt cx="9153000" cy="6886800"/>
          </a:xfrm>
        </p:grpSpPr>
        <p:sp>
          <p:nvSpPr>
            <p:cNvPr id="1169" name="Freeform 39"/>
            <p:cNvSpPr/>
            <p:nvPr/>
          </p:nvSpPr>
          <p:spPr>
            <a:xfrm>
              <a:off x="958680" y="431640"/>
              <a:ext cx="8191440" cy="650268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680"/>
                <a:gd name="textAreaBottom" fmla="*/ 6503040 h 650268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"/>
            <p:cNvSpPr/>
            <p:nvPr/>
          </p:nvSpPr>
          <p:spPr>
            <a:xfrm>
              <a:off x="0" y="405252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"/>
            <p:cNvSpPr/>
            <p:nvPr/>
          </p:nvSpPr>
          <p:spPr>
            <a:xfrm rot="10800000">
              <a:off x="8348400" y="597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2"/>
            <p:cNvSpPr/>
            <p:nvPr/>
          </p:nvSpPr>
          <p:spPr>
            <a:xfrm>
              <a:off x="279360" y="47520"/>
              <a:ext cx="8852040" cy="544860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600"/>
                <a:gd name="textAreaBottom" fmla="*/ 5448960 h 544860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176" name="TextBox 14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7166-C91B-48FD-9C02-43E1C8F2F5A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Grade-Level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K-8 grade-by-grade standards organized by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9-12 high school standards organized by conceptual catego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Standards for Mathemat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escribe mathematical “habits of mind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mathematical proficiency: reasoning, problem solving, modeling, decision making, and engagemen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onnect with content standards in each 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Common Core State Standards f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457D-B5C8-40F4-B69A-C24EB2C6031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K- 8 standa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K-5 standards provide students with a solid foundation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whole numbers, addition, subtraction, multiplication, division, fractions and decim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6-8 standards describe robust learning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geomet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algebra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and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obability and statistic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Modeled after the focus of standards from high-performing nations, the standards for grades 7 and 8 includ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ignificant algebra and geometry con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udents who have completed 7</a:t>
            </a:r>
            <a:r>
              <a:rPr b="0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and mastered the content and skills will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epared for algebra, in 8</a:t>
            </a:r>
            <a:r>
              <a:rPr b="0" i="1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or after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885-ECCA-4E17-9086-9BEE2658113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ontent Placeholder 9"/>
          <p:cNvSpPr/>
          <p:nvPr/>
        </p:nvSpPr>
        <p:spPr>
          <a:xfrm>
            <a:off x="228600" y="1981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grade includes an overview of cross-cutting themes and critical areas o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4" descr="Grade 1 Math.JPG"/>
          <p:cNvPicPr/>
          <p:nvPr/>
        </p:nvPicPr>
        <p:blipFill>
          <a:blip r:embed="rId1"/>
          <a:stretch/>
        </p:blipFill>
        <p:spPr>
          <a:xfrm>
            <a:off x="3200400" y="1371600"/>
            <a:ext cx="563868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2FE-3E60-4A28-BF8D-8CF88890A9D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omain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overarching ideas that connect topics across the gra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illustrate progression of increasing complexity from grade to gr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0" descr="reading standards.JPG"/>
          <p:cNvPicPr/>
          <p:nvPr/>
        </p:nvPicPr>
        <p:blipFill>
          <a:blip r:embed="rId4"/>
          <a:stretch/>
        </p:blipFill>
        <p:spPr>
          <a:xfrm>
            <a:off x="1252440" y="3105000"/>
            <a:ext cx="663912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853-6EA2-41B8-8CAA-688330E5031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high school mathematics standard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all on students to practic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pplying mathematical ways of thinking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real world issues and challeng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develop a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depth of understanding and ability to apply mathematics to nove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s college students and employees regularly are called to do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mathematical model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the use of mathematics and statistics to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nalyze empirica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understand them better, and improve decision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dentify the mathematics that all students should study in order to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college and career read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.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4C2-A247-47C9-8C3F-A99BB85758B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3712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ntent categorie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overarching ideas that describe strands of content in high schoo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Domains/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groups of standards that describe coherent aspects of the content catego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 school standards are organized around five conceptual categories: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Number and Quantity, Algebra, Functions, Geometry,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d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 Statistics and Probabili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Modeling standards are distributed under the five major headings and are indicated with a (</a:t>
            </a:r>
            <a:r>
              <a:rPr b="0" lang="en-US" sz="1700" spc="-1" strike="noStrike">
                <a:solidFill>
                  <a:srgbClr val="6b6b6b"/>
                </a:solidFill>
                <a:latin typeface="Wingdings"/>
                <a:ea typeface="Wingdings"/>
              </a:rPr>
              <a:t>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) symbol.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indicated as (+) are beyond the college and career readiness level but are necessary for advanced mathematics courses, such as calculus, discrete mathematics, and advanced statistics. Standards with a (+) may still be found in courses expected for all student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5AD-CFE0-4238-A5BC-E224A84DC32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High Scho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Content Placeholder 9"/>
          <p:cNvSpPr/>
          <p:nvPr/>
        </p:nvSpPr>
        <p:spPr>
          <a:xfrm>
            <a:off x="457200" y="19051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content category includes an overview of the content found with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6" descr="Number.JPG"/>
          <p:cNvPicPr/>
          <p:nvPr/>
        </p:nvPicPr>
        <p:blipFill>
          <a:blip r:embed="rId1"/>
          <a:stretch/>
        </p:blipFill>
        <p:spPr>
          <a:xfrm>
            <a:off x="3657600" y="1360440"/>
            <a:ext cx="533412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5690-E875-4AFB-9A4F-EDC757F3907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Course Pathways f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Model Mathematics Pathway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veloped by a panel of experts convened by Achieve, including many of the standards writers and review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e the content of the standards into coherent and rigorous cours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llustrate possible approaches—models, not mandates or prescriptions for organization, curriculum or pedagog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completion of the Core in three years, allowing for specialization in the fourth year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epare students for a menu of courses in higher-level mathematic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 the process of finalizing – to be released by the end of Jul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own Arrow 14"/>
          <p:cNvSpPr/>
          <p:nvPr/>
        </p:nvSpPr>
        <p:spPr>
          <a:xfrm flipV="1">
            <a:off x="2133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own Arrow 48"/>
          <p:cNvSpPr/>
          <p:nvPr/>
        </p:nvSpPr>
        <p:spPr>
          <a:xfrm flipV="1">
            <a:off x="6705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C2B-F7BE-45CE-A099-9B87023D2A7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odel Course Pathways for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5"/>
          <p:cNvSpPr/>
          <p:nvPr/>
        </p:nvSpPr>
        <p:spPr>
          <a:xfrm>
            <a:off x="533520" y="5562720"/>
            <a:ext cx="3962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raditional in U.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Freeform 10"/>
          <p:cNvGrpSpPr/>
          <p:nvPr/>
        </p:nvGrpSpPr>
        <p:grpSpPr>
          <a:xfrm>
            <a:off x="1547640" y="3786120"/>
            <a:ext cx="1987560" cy="889200"/>
            <a:chOff x="1547640" y="3786120"/>
            <a:chExt cx="1987560" cy="889200"/>
          </a:xfrm>
        </p:grpSpPr>
        <p:pic>
          <p:nvPicPr>
            <p:cNvPr id="1247" name="Freeform 10" descr=""/>
            <p:cNvPicPr/>
            <p:nvPr/>
          </p:nvPicPr>
          <p:blipFill>
            <a:blip r:embed="rId1"/>
            <a:stretch/>
          </p:blipFill>
          <p:spPr>
            <a:xfrm>
              <a:off x="1547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1600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Geomet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Freeform 11"/>
          <p:cNvGrpSpPr/>
          <p:nvPr/>
        </p:nvGrpSpPr>
        <p:grpSpPr>
          <a:xfrm>
            <a:off x="1547640" y="4780080"/>
            <a:ext cx="1987560" cy="888840"/>
            <a:chOff x="1547640" y="4780080"/>
            <a:chExt cx="1987560" cy="888840"/>
          </a:xfrm>
        </p:grpSpPr>
        <p:pic>
          <p:nvPicPr>
            <p:cNvPr id="1250" name="Freeform 11" descr=""/>
            <p:cNvPicPr/>
            <p:nvPr/>
          </p:nvPicPr>
          <p:blipFill>
            <a:blip r:embed="rId2"/>
            <a:stretch/>
          </p:blipFill>
          <p:spPr>
            <a:xfrm>
              <a:off x="1547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1600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Rounded Rectangle 41"/>
          <p:cNvGrpSpPr/>
          <p:nvPr/>
        </p:nvGrpSpPr>
        <p:grpSpPr>
          <a:xfrm>
            <a:off x="407880" y="1238400"/>
            <a:ext cx="8454960" cy="1212840"/>
            <a:chOff x="407880" y="1238400"/>
            <a:chExt cx="8454960" cy="1212840"/>
          </a:xfrm>
        </p:grpSpPr>
        <p:pic>
          <p:nvPicPr>
            <p:cNvPr id="1253" name="Rounded Rectangle 41" descr=""/>
            <p:cNvPicPr/>
            <p:nvPr/>
          </p:nvPicPr>
          <p:blipFill>
            <a:blip r:embed="rId3"/>
            <a:stretch/>
          </p:blipFill>
          <p:spPr>
            <a:xfrm>
              <a:off x="407880" y="1238400"/>
              <a:ext cx="8454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509760" y="1338120"/>
              <a:ext cx="8200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urses in higher level mathematics: Precalculus, Calculus (upon completion of Precalculus), Advanced Statistics, Discrete Mathematics, Advanced Quantitative Reasoning, or other courses to be designed at a later date, such as additional career technical cours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Box 49"/>
          <p:cNvSpPr/>
          <p:nvPr/>
        </p:nvSpPr>
        <p:spPr>
          <a:xfrm>
            <a:off x="5105520" y="5562720"/>
            <a:ext cx="39621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ternational Integrated approach (typical outside of U.S</a:t>
            </a:r>
            <a:r>
              <a:rPr b="0" lang="en-US" sz="1500" spc="-1" strike="noStrike">
                <a:solidFill>
                  <a:srgbClr val="6b6b6b"/>
                </a:solidFill>
                <a:latin typeface="Arial"/>
              </a:rPr>
              <a:t>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b6b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Freeform 52"/>
          <p:cNvGrpSpPr/>
          <p:nvPr/>
        </p:nvGrpSpPr>
        <p:grpSpPr>
          <a:xfrm>
            <a:off x="6119640" y="3786120"/>
            <a:ext cx="1987560" cy="889200"/>
            <a:chOff x="6119640" y="3786120"/>
            <a:chExt cx="1987560" cy="889200"/>
          </a:xfrm>
        </p:grpSpPr>
        <p:pic>
          <p:nvPicPr>
            <p:cNvPr id="1257" name="Freeform 52" descr=""/>
            <p:cNvPicPr/>
            <p:nvPr/>
          </p:nvPicPr>
          <p:blipFill>
            <a:blip r:embed="rId4"/>
            <a:stretch/>
          </p:blipFill>
          <p:spPr>
            <a:xfrm>
              <a:off x="6119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6172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Freeform 53"/>
          <p:cNvGrpSpPr/>
          <p:nvPr/>
        </p:nvGrpSpPr>
        <p:grpSpPr>
          <a:xfrm>
            <a:off x="6119640" y="4780080"/>
            <a:ext cx="1987560" cy="888840"/>
            <a:chOff x="6119640" y="4780080"/>
            <a:chExt cx="1987560" cy="888840"/>
          </a:xfrm>
        </p:grpSpPr>
        <p:pic>
          <p:nvPicPr>
            <p:cNvPr id="1260" name="Freeform 53" descr=""/>
            <p:cNvPicPr/>
            <p:nvPr/>
          </p:nvPicPr>
          <p:blipFill>
            <a:blip r:embed="rId5"/>
            <a:stretch/>
          </p:blipFill>
          <p:spPr>
            <a:xfrm>
              <a:off x="6119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6172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Freeform 22"/>
          <p:cNvGrpSpPr/>
          <p:nvPr/>
        </p:nvGrpSpPr>
        <p:grpSpPr>
          <a:xfrm>
            <a:off x="1547640" y="2840040"/>
            <a:ext cx="1987560" cy="890640"/>
            <a:chOff x="1547640" y="2840040"/>
            <a:chExt cx="1987560" cy="890640"/>
          </a:xfrm>
        </p:grpSpPr>
        <p:pic>
          <p:nvPicPr>
            <p:cNvPr id="1263" name="Freeform 22" descr=""/>
            <p:cNvPicPr/>
            <p:nvPr/>
          </p:nvPicPr>
          <p:blipFill>
            <a:blip r:embed="rId6"/>
            <a:stretch/>
          </p:blipFill>
          <p:spPr>
            <a:xfrm>
              <a:off x="1547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1600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Freeform 23"/>
          <p:cNvGrpSpPr/>
          <p:nvPr/>
        </p:nvGrpSpPr>
        <p:grpSpPr>
          <a:xfrm>
            <a:off x="6119640" y="2840040"/>
            <a:ext cx="1987560" cy="890640"/>
            <a:chOff x="6119640" y="2840040"/>
            <a:chExt cx="1987560" cy="890640"/>
          </a:xfrm>
        </p:grpSpPr>
        <p:pic>
          <p:nvPicPr>
            <p:cNvPr id="1266" name="Freeform 23" descr=""/>
            <p:cNvPicPr/>
            <p:nvPr/>
          </p:nvPicPr>
          <p:blipFill>
            <a:blip r:embed="rId7"/>
            <a:stretch/>
          </p:blipFill>
          <p:spPr>
            <a:xfrm>
              <a:off x="6119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6172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70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AFD-BDAF-4688-9BBF-6C097D74F21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FA0-621C-4568-B99C-F3B9FF55E28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Language Arts and Literacy in 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llege and Career Readiness (CCR) Standards 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verarching standards for each strand that are further defined by grade-specific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Grade-Level Standards in English Language Arts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8, grade-by-grad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9-10 and 11-12 grade bands for high school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ur strands: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Read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Writ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Speaking and Listen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Languag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for Literacy in History/Social Studies, Science, and Technical Subjects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are embedded at grades K-5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ntent-specific literacy standards are provided for grades 6-8, 9-10, and 11-12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3" marL="1425600" indent="-287280">
              <a:lnSpc>
                <a:spcPct val="115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F2E9-B332-4CAC-8545-8E9E92F1C10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Rea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6"/>
          <p:cNvSpPr/>
          <p:nvPr/>
        </p:nvSpPr>
        <p:spPr>
          <a:xfrm>
            <a:off x="457200" y="1600200"/>
            <a:ext cx="8229600" cy="3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ogressive development of reading comprehension; students gain more from what they read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the importance of grade-level texts that are of appropriate difficulty and are increasingly sophisticat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Reading Foundational Skills (K-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ture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Informational Text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History/Social Studie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Science and Technical Subject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E3C-42C0-4ECD-AD8E-447E160D2C3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86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87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91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95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CF3-DE54-4B7F-9444-8D660C7BB3B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30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C82-6C5E-4419-962D-B1E1B78CB7F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30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AA2E-961A-4637-9CD3-586F5D813DE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ri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 students to compose arguments and opinions, informative/explanatory pieces, and narrative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the use of reason and evidence to substantiate an argument or claim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ability to conduct research – short projects and sustained inqui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incorporate technology as they create, refine, and collaborate on writ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student writing samples that illustrate the criteria required to meet the standards (See standards’ appendices for writing samples)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7E97-DDFA-4326-AF8D-69B286AAF0D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aking and Liste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4475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peaking and Listen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speaking and listening in a range of settings, both formal and informal –  academic, small-group, whole-class discussion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effective communication practi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interpretation and analysis of message as presented through oral, visual, or multimodal forma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conventions for writing and speak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light the importance of vocabulary acquisition through a mix of conversation, direct instruction, and read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be addressed in context of reading, writing, speaking and listen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1b2"/>
                </a:solidFill>
                <a:latin typeface="Arial"/>
              </a:rPr>
              <a:t>Media and Technology are integrated throughout the standard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6616-6D07-4CE0-8B4F-9B2AAE50BCA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31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2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AD1-59D4-4D9F-BBE5-89FFB2F04B6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650-C5DF-4109-A2E1-B88943D38E7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57200" y="1600200"/>
            <a:ext cx="82296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K-12 Common Standards:</a:t>
            </a:r>
            <a:r>
              <a:rPr b="0" lang="en-US" sz="1800" spc="-1" strike="noStrike">
                <a:solidFill>
                  <a:srgbClr val="1d91b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re writing teams in English Language Arts and Mathematics (See </a:t>
            </a:r>
            <a:r>
              <a:rPr b="0" lang="en-US" sz="1700" spc="-1" strike="noStrike" u="sng">
                <a:solidFill>
                  <a:srgbClr val="0091b2"/>
                </a:solidFill>
                <a:uFillTx/>
                <a:latin typeface="Arial"/>
              </a:rPr>
              <a:t>www.corestandards.or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for list of team member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ternal and state feedback teams provided on-going feedback to writing teams throughout the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raft K-12 standards were released for public comment on March 10, 2010; 9,600 comments receiv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Validation Committee of leading experts reviews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d91b1"/>
                </a:solidFill>
                <a:latin typeface="Arial"/>
              </a:rPr>
              <a:t>Final standards were released </a:t>
            </a:r>
            <a:r>
              <a:rPr b="1" lang="en-US" sz="1700" spc="-1" strike="noStrike" u="sng">
                <a:solidFill>
                  <a:srgbClr val="1d91b1"/>
                </a:solidFill>
                <a:uFillTx/>
                <a:latin typeface="Arial"/>
              </a:rPr>
              <a:t>June 2, 20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and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7739-06C9-4914-B72B-1CB1DC6977F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xternal and State Feedback teams included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12 teacher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ostsecondary facul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te curriculum and assessments exper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National organizations (including, but not limited, to):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066680" y="3962520"/>
          <a:ext cx="7772400" cy="1996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Council on Education (AC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Federation of Teachers (AF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ampaign for High School Equity (CHS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onference Board of the Mathematical Sciences (CB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Modern Language Association (ML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English (NCT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Mathematics (NCT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Education Association (NE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Desig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701-5C53-4FD0-9348-7200C28CEA2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*Ready for first-year credit-bearing, postsecondary coursework in mathematics and English without the need for reme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Building on the strength of current state standards, the CCSS are designed to be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584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ed, coherent, clear and rigorou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ternationally benchmark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chored in college and career readiness*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vidence and research bas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15C9-4B81-482D-B198-3427DBEA8A0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was used to guide critical decisions in the following areas: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sion of particular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iming of when content should be introduced and the progression of that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nsuring focus and coherenc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ing and formatting the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termining emphasis on particular topics in standard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include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from high-performing countries, leading states, and nationally-regarded framework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 on adolescent literacy, text complexity, mathematics instruction, quantitative literacy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Lists of works consulted and research base included in standards’ appendic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43D4-8054-4210-8260-BFE4D23A2DC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03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04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0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for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IS</cp:lastModifiedBy>
  <cp:lastPrinted>2010-02-24T23:39:36Z</cp:lastPrinted>
  <dcterms:modified xsi:type="dcterms:W3CDTF">2011-07-07T17:15:27Z</dcterms:modified>
  <cp:revision>598</cp:revision>
  <dc:subject/>
  <dc:title>Slide 1</dc:title>
</cp:coreProperties>
</file>